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7F7-A503-4DC6-AD6C-B2515800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B57-08AF-4E26-841B-CB9A6103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6BE-FC4F-4016-837F-F92F1999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AF0-3140-4EBB-A094-EA5D23DA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10A-0862-486C-BB3D-5CF79CD0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7C2-A08C-4EE9-8DB6-C4985FAA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37C-545A-44E3-A844-809D574D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ED7-DDAA-4701-846E-D35886BC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027-6844-4DAB-8F54-F5D7FA80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6E5-07E5-4249-B12F-AE87B2C6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3EA-0726-485E-9B30-C69231C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078-A435-4CC3-A1E2-4604535F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F17-AD8D-4C62-850C-02F237893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4840" y="574560"/>
            <a:ext cx="1087200" cy="1254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GIONALE TOAC 09 mars 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rif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te vierge: 3 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cation puce électron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00 € (+ caution: 30,00 €)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pour la jour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72400" y="574560"/>
            <a:ext cx="79380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219320" y="1681200"/>
          <a:ext cx="6858000" cy="2585880"/>
        </p:xfrm>
        <a:graphic>
          <a:graphicData uri="http://schemas.openxmlformats.org/drawingml/2006/table">
            <a:tbl>
              <a:tblPr/>
              <a:tblGrid>
                <a:gridCol w="990360"/>
                <a:gridCol w="1719360"/>
                <a:gridCol w="1354320"/>
                <a:gridCol w="1353960"/>
                <a:gridCol w="144000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ciés FF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licenciés FF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mille Non Licenciés FF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 et mo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ans et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 les 2 cou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 et mo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ans et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33520"/>
            <a:ext cx="91440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52480" y="685800"/>
            <a:ext cx="56390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6868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0" spc="-1" strike="noStrike">
                <a:solidFill>
                  <a:srgbClr val="000000"/>
                </a:solidFill>
                <a:latin typeface="Times New Roman"/>
              </a:rPr>
              <a:t>Abis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2480" y="685800"/>
            <a:ext cx="56390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52480" y="685800"/>
            <a:ext cx="56390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52480" y="685800"/>
            <a:ext cx="56390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2480" y="685800"/>
            <a:ext cx="56390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52480" y="685800"/>
            <a:ext cx="56390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4840" y="574560"/>
            <a:ext cx="1087200" cy="125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GIONALE TOAC 09 mars 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72400" y="574560"/>
            <a:ext cx="793800" cy="38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U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N LICENCI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-INSCR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4840" y="574560"/>
            <a:ext cx="1087200" cy="125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GIONALE TOAC 09 mars 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772400" y="574560"/>
            <a:ext cx="793800" cy="382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N LICENCIES INSCRI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4840" y="574560"/>
            <a:ext cx="1087200" cy="125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GIONALE TOAC 09 mars 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72400" y="574560"/>
            <a:ext cx="793800" cy="382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rôleur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ean-Louis BL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Délégué Régional/Arbitre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ierre RO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4840" y="574560"/>
            <a:ext cx="1087200" cy="125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GIONALE TOAC 09 mars 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772400" y="574560"/>
            <a:ext cx="793800" cy="38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harmacies de Gar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armacie de Cantelauze – Jeandesboz - 5 chemin de Cantelauze –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nsorb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05 62 23 74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armacie du Val d’Aran - Mme Perrin - 10 allée du Béarn –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lomi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05 61 78 04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armacie de la Ramée - Le Pape – Ibos - 102 chemin de Larramet –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urnefeuil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05 61 07 19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Médecin de G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él: 15 ou 05 61 49 66 6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S Médecins: 05 61 33 00 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362320"/>
            <a:ext cx="684216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ste disponible su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toulouse.fr/fr-32/sante-services-sociaux-86/services-garde-87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4840" y="574560"/>
            <a:ext cx="1087200" cy="1254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GIONALE TOAC 09 mars 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772400" y="574560"/>
            <a:ext cx="793800" cy="38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AFE : 0,50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ANETTES: 1,00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HOT DOG : 2,00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SOUPE : 1,50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ATISSERIE : 1,00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590920"/>
            <a:ext cx="487656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mettre à j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4840" y="574560"/>
            <a:ext cx="1087200" cy="125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GIONALE TOAC 09 mars 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772400" y="574560"/>
            <a:ext cx="793800" cy="382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ircuit F (jalonné)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dapté aux plus jeunes. Idéal à faire en promenade en famil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ircuit E (pas de jalon)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Circuit de référence des moins de 12 ans. On ne ne quitte pas les chemins. En technique c'est l'équivalent du A du ReDéO (très simp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ircuit 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On s'éloigne de temps en temps des sentiers pour aller poinçonner les balises. En technique c'est l'équivalent du B du RédéO (simp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ircuit Abi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On coupe régulièrement en tout terrain, les approches des balises pouvant nécessiter une lecture précise de carte. En technique c'est l'équivalent du C de l'inter-entreprise (moyen). Le temps du vainqueur est estimé à 1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33520"/>
            <a:ext cx="91440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000000"/>
                </a:solidFill>
                <a:latin typeface="Times New Roman"/>
              </a:rPr>
              <a:t>H-2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33520"/>
            <a:ext cx="91440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000000"/>
                </a:solidFill>
                <a:latin typeface="Times New Roman"/>
              </a:rPr>
              <a:t>H-1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3:52:22Z</dcterms:created>
  <dc:creator>TO31084</dc:creator>
  <dc:description/>
  <dc:language>en-US</dc:language>
  <cp:lastModifiedBy>to31084</cp:lastModifiedBy>
  <dcterms:modified xsi:type="dcterms:W3CDTF">2008-03-14T10:10:36Z</dcterms:modified>
  <cp:revision>26</cp:revision>
  <dc:subject/>
  <dc:title>REGIONALE TOAC 12 février 06</dc:title>
</cp:coreProperties>
</file>